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B4F-3D33-4F60-8F9E-5B5E0A37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30560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3DA-6251-4CF9-BECA-B4F65B1B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1952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DE5-BA11-4938-9AAF-A10B2518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88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140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88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140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668-CD63-468B-8101-D9FDF270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CFA4-8AE7-454E-B081-44B10324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2650-C236-4FE5-9984-651C8176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91D3-F5D7-44DF-9DE8-4CFAFD1A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0F26-F5CF-4540-B19E-C1FACB14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E68C-08E9-4EA9-BCB4-51E240AD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2400" cy="61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C500-5683-4EBF-B63F-A59634E3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33FE-DCCA-4414-BCCC-5EDAD215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5BB-E4CE-4FCB-B792-2EB42E2E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1952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9728-43A2-4394-9E27-649A5B2C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A2FE-F121-4E95-BFD2-955AB400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360" y="430560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0152-C878-40E1-91BF-AC1EA497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1952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801F-F707-411A-808A-03982BF5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88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8140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36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088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8140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76A0-478E-4DA6-B383-4FB5C6BA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9E48-4558-4C23-A6B8-261D6D76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79AB-A233-45A2-A380-75993FCC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DFED4-F6DC-42E5-842A-A7DF1A87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032B-9DD8-47D8-90B0-0D36EBBA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C3BFE-67BD-4996-82ED-DC0E394C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1E8D-FE79-482A-B0E2-3C2D0F32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2400" cy="61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EB9B-CA91-4B84-B515-6B883950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9020-9BDB-4C88-A713-F50DF39F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1952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BC23-FE22-491A-9605-51BFA95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AAF7-9D8B-4FAB-B004-991454D9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0360" y="430560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A87B-E23E-4F0D-9A61-5F3E4A16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1952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0B3B-F931-402B-9C7F-E2179579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7088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81400" y="212868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036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7088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881400" y="4305600"/>
            <a:ext cx="267624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16BD7-7D7A-4845-809A-7A1CAA1E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6BD-460F-4798-9973-DF49DCB6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3A7-D7E1-415D-A6D7-2A0D3D80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2400" cy="61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73C-7FD7-4B18-98CF-F40F74E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DDC-C1E7-4D01-A30C-7DD1810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19520" y="430560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AD0-E99E-4EE2-91FE-C2DEA81F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9520" y="2128680"/>
            <a:ext cx="40561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305600"/>
            <a:ext cx="831240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A41-5577-4E06-B62F-2F4E0B0C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D1C31-BE6B-4DDC-9035-09827A0AAE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831C7-9C93-40C1-BC2A-543B99D33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71280" y="6743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699000" y="6743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360" y="6743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8E519-8602-4EFB-84E9-AEDA2D598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71640" y="662040"/>
            <a:ext cx="8675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ffluent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Why the suburb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Escape the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Better life for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 'American Dream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Afford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114800" y="3886200"/>
            <a:ext cx="5473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Baby B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40575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945 to 1961, the population doub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More than 65 mil children born in the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t it's peak, a child bor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7 se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Returning veter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Marriage age decr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Wanting bigger fami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Great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Advanced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57800" y="2185920"/>
            <a:ext cx="4572000" cy="51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. Changing Work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ite collar jobs grow; out number bl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collar jo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ultinational Corpo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he rise of franch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hain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Organization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ttacked conformity in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 Ten Franchises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4057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Hampton Hot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AMP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McDona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7-Ele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Superc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20960" y="2128680"/>
            <a:ext cx="405756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Days 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Vanguard Cleaning     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Serv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Sub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Denny'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Consumer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Buying material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From “needed” goods to recreational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743200" y="3462480"/>
            <a:ext cx="5257800" cy="36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Electronic Adv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7988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Radios made sma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Computer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mili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roces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92520" y="2128680"/>
            <a:ext cx="407988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735440" y="2941560"/>
            <a:ext cx="51055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. Medical Adv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40579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Radiation and chemotherapy for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CPR and mechanical heart val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ew blood tests and antibiotics end fear of TB (tubercul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Jonas S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Creates the poli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vac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4343400" cy="518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705960"/>
            <a:ext cx="86738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he students will be able to explain cause and effects of the baby b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he students will be able to explain how       the workplace changed during the 195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he students will be able to explain the         changes in media in the 195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American Abund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0000" y="2128680"/>
            <a:ext cx="407988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Average income trip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Standard of living rose dra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Americans had a disposable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Advertising industry began to 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92520" y="2128680"/>
            <a:ext cx="407988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1953 Rinso Laundry Soap #004492"/>
          <p:cNvPicPr/>
          <p:nvPr/>
        </p:nvPicPr>
        <p:blipFill>
          <a:blip r:embed="rId2"/>
          <a:stretch/>
        </p:blipFill>
        <p:spPr>
          <a:xfrm>
            <a:off x="5573880" y="1722600"/>
            <a:ext cx="3809880" cy="51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Suburb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2057040"/>
            <a:ext cx="40575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Levittown, New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arliest mas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subu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85% of house construction was for the subur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20960" y="2128320"/>
            <a:ext cx="4057560" cy="4170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257800" y="1954080"/>
            <a:ext cx="4572000" cy="467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war Kitch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60360" y="2128320"/>
            <a:ext cx="8315280" cy="4170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371600" y="205740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70596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twar Kitch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60360" y="2128320"/>
            <a:ext cx="8315280" cy="4170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00200" y="160020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668988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705960"/>
            <a:ext cx="86756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s to the number of appliances in our house, the girls will have over 3 hours to kill every afternoon.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. Levi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60360" y="2128320"/>
            <a:ext cx="8315280" cy="4170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143000" y="18288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23:21:20Z</dcterms:created>
  <dc:creator>Courtney Huro</dc:creator>
  <dc:description/>
  <dc:language>en-US</dc:language>
  <cp:lastModifiedBy>School District U46</cp:lastModifiedBy>
  <dcterms:modified xsi:type="dcterms:W3CDTF">2011-03-14T13:13:59Z</dcterms:modified>
  <cp:revision>4</cp:revision>
  <dc:subject/>
  <dc:title>Slide 1</dc:title>
</cp:coreProperties>
</file>